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4.xml" ContentType="application/vnd.openxmlformats-officedocument.presentationml.comments+xml"/>
  <Override PartName="/ppt/comments/comment2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6-08-26T23:13:41.725000000" idx="1">
    <p:pos x="4295" y="692"/>
    <p:text/>
  </p:cm>
</p:cmLst>
</file>

<file path=ppt/comments/comment23.xml><?xml version="1.0" encoding="utf-8"?>
<p:cmLst xmlns:p="http://schemas.openxmlformats.org/presentationml/2006/main">
  <p:cm authorId="0" dt="2016-08-26T23:13:48.053000000" idx="2">
    <p:pos x="1521" y="52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5E4-4E09-4AF3-B602-A4CA4E9B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6AC-958F-4663-892F-86B62E13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2E110-F5E7-4CF2-8930-C0FCF82B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BFCF4-9825-4C64-85EA-ABF04DB4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E6DCB-B8AE-4F31-AED6-75F17397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F6093-4D44-4C55-A25F-6E22ADC8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3BC77-26EF-4490-B1C8-8D1192B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3D650-4CE9-47D9-9A26-13D2EFDD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1D139-EDD9-4DAE-8F97-EFE98A17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7463D-FC23-4D90-8CEB-13244D9C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F5F62-7FFE-4CFA-90E5-5E8183FE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8D74A-2F49-4379-B3F9-5D50CD5D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227-7827-4C7C-8A75-237A8781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3777D-C560-450C-9009-E9453C50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EA340-B298-4D04-901A-F8B2665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F326F-DA09-435C-8F52-7DD599BA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6EDB2-FB10-46F2-BC1D-D6B4F77D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48B54-1444-47EC-8264-40887F37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0392A-5C7B-4552-8B5E-386D0B53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B3B5A-620F-4551-B048-B0092A12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D1DCE-9927-4698-BC67-52C39AE7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41C45-99E8-428B-8E47-3CC516C2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D1059-BB7E-4D16-98F0-DA3FDAEF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86A-745C-4F1A-954E-783F5904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25B8F-1785-4409-8E02-4CA82D1E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985C1-D8CD-4082-8EE7-5785806C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BDFA3-C545-4ACB-948A-A03E2391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DC865-1B0E-47EA-BF60-A0366767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8DE80-5C08-4185-80AF-F91C3B7D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80A4A-33EB-41D5-8414-F9FB7A91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FAACF-6E4F-49A5-9956-C7C73FEE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9A445-16AB-46B9-B736-0047D86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72668-7E45-43F7-B04C-294DF99F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343B2-31AB-4C4D-B774-68247812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DF2D-B078-413C-A917-8B6799BA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9DE76-2E4A-4A31-970C-6DD0B368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EAC48-B55F-4390-B045-8A77FBC6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A5196-070F-4F09-A8BB-B307531B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0EE4A-72E1-4CD3-B2EC-9493B6E0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59FF2-ED92-4101-8679-560EC41C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E64BF-B1FF-43BF-BB2C-E7F2F6B6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37EDE-57EE-4DA3-AF3A-B686FA5C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0BBEB-B817-4DC6-A3C1-4873D796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C0244-6B7D-47B4-9D76-9BA0D391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C5371-05CB-4F6D-9A65-D37006F6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0924-3884-470B-A89F-EA345231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EAC44-C671-453E-AC1F-9D16C257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08E6B-7A09-4FB8-ACB1-345536DD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AD382-6573-4499-8F91-DB790BD6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7369E-D1D3-4884-A2D5-2877857C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84B89-941D-48DC-97D1-C63A770D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9CA2-C999-489B-84F6-70241AAE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A027-9EC9-4A04-BA3C-7D46F025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6416-8DBA-4BD0-A572-179DEB88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DC5D-72B2-405E-A03B-E17879F4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E1C1-9E5E-49AB-84BA-7B7559F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092-D5EA-4F74-8EA4-51A79A95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A591-2728-4B9A-9CFF-5E7095E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76C4-1694-4AB2-B24C-8DC90D70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862E-E11C-4042-913C-23A38C3D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F6F5-7C82-4D4A-981E-E51A6941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885F-B7C9-479B-8AAD-6D13C13B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4EE6-254F-45DE-A397-B63383D8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8033-566F-4876-9156-AC257491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8C53-003D-4861-A751-5BF79883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8F25-B7CF-4273-BEB9-8FAF5209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ABDE-F74D-41B9-BDD7-A0466317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819-6405-42D3-903F-008C991D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EA79-40BF-4D0B-86B4-10BC0B21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FA2F-76AB-43DF-81FA-42E1522A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89DD-45C4-41FF-907C-79B3B62C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D9E4-0EBF-4EA5-A545-9C5D1BEB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A51C-3280-4E7C-AD1F-BC36BC29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7540-85EA-4C61-AB01-89B8B14B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ED70-EDAB-4902-8A44-A70EC374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7FBA6-268C-4261-8255-0E668DC6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99C9F-528F-438A-8FB1-A978950D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0F68-0472-4A3C-A161-182CC1A8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830-8177-4A94-B211-05E2C87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5B265-4393-4514-AF94-1F3F4597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11E2-1132-45D5-8BD6-9E4DDB72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28AD-B79C-4E8A-8DFA-3262F30B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1E87E-9D99-404B-9A0A-5B01B01F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CC136-6990-4BB3-A47F-EAB26AA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5E9D-0C5D-4BB5-BF0F-E6B00744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30633-E062-48B3-80B4-FDBA5E80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475B-BE91-438F-B5A7-106E6316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8470-5BC2-4C77-93D7-9FF504A2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E4FEB-F7AD-4C63-A1F4-D620FEFB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363-ACF7-46AF-AF75-3628D40C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17BA1-3C8E-448A-A522-0B7D0DDF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2AD63-3822-455C-90B9-DBD8D2E6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535C7-C96B-4292-8708-FF3028C4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CCF4-B070-46B9-AC23-1C86C336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D8A0-BE5E-47D5-B298-0B7AF772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372E-3A71-4A3E-8410-FF8850C0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5D324-B819-44D3-997C-506481A1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F8855-AA81-45E4-B4A1-F8E37351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6FA03-6A6F-4FC4-A0AC-94A125CC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39086-15D9-4F0B-B6E3-B292A197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961-9AFA-4003-B700-CE1D3C1D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23652-B95B-4DF8-9459-1B1A2E85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12591-4B51-4275-856F-2FE64E7C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E5D9C-BB8E-4317-A13F-97DB98E7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6E6A-DFC0-4917-B01E-D60FAC71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7A36E-0661-4D45-B101-E943E72A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51D92-0B12-47A6-B97D-C98D475E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9DB36-CBAB-423C-A79B-457CD272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38FC4-6224-418A-ABDA-51CAAA3E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1702C-366F-4E37-AC6D-0C4D0056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C2B3-EEE0-4FA0-A4E8-FBBA4EF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735-8BC6-4AE4-B704-B7F5BAAB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D34CF-2959-4628-88CE-A2CBAF70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B69C3-9B67-4030-B8DA-52137BBB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464A-D86A-406C-B96F-3DBF0557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7B5E-4646-4F0F-A7F4-8D33D0D4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6C88B-151B-415A-B0C6-ACD660CF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335EB-B423-4869-AFE4-19A15AC7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41613-ABCF-4083-9EB5-7482B306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9DEF2-9927-4802-B20D-1A496833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902D9-9AF0-4CFB-8AF6-6B64BBDD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AB4AF-4E72-4177-8FAA-6FF96EAC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D16-AEBD-4DA3-B384-7C56DC79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E1295-418A-4F08-96EF-88E4BB4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5762-3795-46A6-8571-BBCE4A8D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07E45-7E18-4B6A-8C32-D9BE0E97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D6A5C-DB03-422B-A704-AC9930E1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3F29F-E441-4CD7-A9C6-940C181E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9D2E0-D696-456E-B2B3-81E8BF74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970B3-8535-4D70-866A-5177061A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85E39-5B54-4914-B07B-3C219BA2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A568A-6605-4332-B13D-8DE009DF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7DC9-7722-450B-A849-84AED28A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B61-610E-4C15-B9EA-1F8CA6BB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908B-4511-4492-A81F-BC77C4D8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FC548-6524-464D-8666-B52708D2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E490B-AF7E-4C50-B1A9-7E6F0B06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83A6E-09B6-410B-8FC2-B31FFA4A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B5965-7F7B-4AEE-B752-AB51F998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64EA3-67E0-48A7-9E8E-C8DEFFB7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1D483-BB5F-4B70-97E1-F64FFFAA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86B04-C1DC-4A33-906F-FB6064B2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39422-127A-49D0-9D91-7B046748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AD24A-65C4-4692-ABA0-033B0DA7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993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993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993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994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994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994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994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067E-D612-4659-AA85-91A0976C006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A02C-5E3D-4488-B88E-8113BCB44D0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11ED-0CCB-47D8-A3E3-157C86D0241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B7E3-C9B5-4589-9C1E-15B21247E39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096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096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096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096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096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096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096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5" name="图片 40973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3EA6-FE97-4C23-8783-C9C8234FA44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FFC5-BDB5-4210-BF2D-06E5F626062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7C69-BB74-40A6-9D73-760B3CFB19A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6D58-3E3A-4860-82AB-A26D9442CA5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58D3-6F14-4A2A-8E35-039D2F08CE0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33C2-7906-4DBA-B52C-C195BA3A688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8F62-7901-469D-BD36-DCD6B832286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04C1-7E72-4CC1-B0B5-51DBC4A269D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baidu.com/s?wd=&#19968;&#26085;&#38590;&#20877;&#26216;&amp;tn=44039180_cpr&amp;fenlei=mv6quAkxTZn0IZRqIHckPjm4nH00T1dWnjDvPWD4nh7BPvRzuHbv0ZwV5Hcvrjm3rH6sPfKWUMw85HfYnjn4nH6sgvPsT6KdThsqpZwYTjCEQLGCpyw9Uz4Bmy-bIi4WUvYETgN-TLwGUv3EnWfsn163n1b" TargetMode="External"/><Relationship Id="rId2" Type="http://schemas.openxmlformats.org/officeDocument/2006/relationships/hyperlink" Target="https://www.baidu.com/s?wd=&#38518;&#28170;&#26126;&amp;tn=44039180_cpr&amp;fenlei=mv6quAkxTZn0IZRqIHckPjm4nH00T1dWnjDvPWD4nh7BPvRzuHbv0ZwV5Hcvrjm3rH6sPfKWUMw85HfYnjn4nH6sgvPsT6KdThsqpZwYTjCEQLGCpyw9Uz4Bmy-bIi4WUvYETgN-TLwGUv3EnWfsn163n1b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<Relationship Id="rId5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TextBox 1"/>
          <p:cNvSpPr/>
          <p:nvPr/>
        </p:nvSpPr>
        <p:spPr>
          <a:xfrm>
            <a:off x="1476360" y="1341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14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小蜗牛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510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12" name="Picture 6" descr="01300534138712135391397323205"/>
          <p:cNvPicPr/>
          <p:nvPr/>
        </p:nvPicPr>
        <p:blipFill>
          <a:blip r:embed="rId1"/>
          <a:stretch/>
        </p:blipFill>
        <p:spPr>
          <a:xfrm>
            <a:off x="1187280" y="2205000"/>
            <a:ext cx="705024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600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02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5"/>
          <p:cNvSpPr/>
          <p:nvPr/>
        </p:nvSpPr>
        <p:spPr>
          <a:xfrm>
            <a:off x="317520" y="1658880"/>
            <a:ext cx="88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大声朗读课文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标注自然段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圈画生字词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一）学习第一、二自然段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齐读第一自然段，运用“旁边”一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红的旁边坐着（           ）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文具店在我们学校的（          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小树发芽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5" descr="96ec7b22fe420870"/>
          <p:cNvPicPr/>
          <p:nvPr/>
        </p:nvPicPr>
        <p:blipFill>
          <a:blip r:embed="rId1"/>
          <a:stretch/>
        </p:blipFill>
        <p:spPr>
          <a:xfrm>
            <a:off x="1835280" y="1844640"/>
            <a:ext cx="532764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第二自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来了，太阳出来了，冰雪（    ），小树（    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来了，多好玩啊，蜗牛妈妈对小蜗牛说：（     ）。它会玩（      ），会玩（      ），会玩（      ），还会玩（      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小树长满了叶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7e618e9cbe109bfa"/>
          <p:cNvPicPr/>
          <p:nvPr/>
        </p:nvPicPr>
        <p:blipFill>
          <a:blip r:embed="rId1"/>
          <a:stretch/>
        </p:blipFill>
        <p:spPr>
          <a:xfrm>
            <a:off x="971640" y="2565360"/>
            <a:ext cx="727236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24000" y="90792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重点学习第三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蜗牛（爬呀，爬呀），它看见了小树（          ）。一天过去了，蜗牛妈妈想，怎么还没回来，小蜗牛（   ）它看见了树叶（     ），一个月过去了，蜗牛妈妈想，怎么还没回来，小蜗牛（    ），它看见了碧绿碧绿的草地上长着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齐读第三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三）学习第四 五自然段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知道已经是（   ），让小蜗牛去（    ），小蜗牛（    ），爬了好久才爬回来，对妈妈说（          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采几个蘑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5" descr="ac75323d6b6de243-72c7f71f5d8818aa-1af1ca76a1131b053f4b3700619e5386"/>
          <p:cNvPicPr/>
          <p:nvPr/>
        </p:nvPicPr>
        <p:blipFill>
          <a:blip r:embed="rId1"/>
          <a:stretch/>
        </p:blipFill>
        <p:spPr>
          <a:xfrm>
            <a:off x="971640" y="2276640"/>
            <a:ext cx="71294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四）学习第六 七 八自然段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齐读六 七 八自然段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不同季节树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角色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地上盖着雪，树叶全掉了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5" descr="47e864433d57ba15-4e881d80e0dc05a3-aa6010b66056b791a1b94e5409628551"/>
          <p:cNvPicPr/>
          <p:nvPr/>
        </p:nvPicPr>
        <p:blipFill>
          <a:blip r:embed="rId1"/>
          <a:stretch/>
        </p:blipFill>
        <p:spPr>
          <a:xfrm>
            <a:off x="1187280" y="2997360"/>
            <a:ext cx="676944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6836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Calibri"/>
                <a:ea typeface="幼圆"/>
              </a:rPr>
              <a:t>什么是蜗牛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0" y="285264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701640" y="3806280"/>
            <a:ext cx="7335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蜗牛是一种生活在陆地上的软体动物，属腹足纲，生活范围极广，耐严寒高温。“蜗牛”顾名思义是背着蜗壳的“牛”之义，事实上，它身体虽小，但有“角”，力大，肉味美，确也如牛一般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5" descr=""/>
          <p:cNvPicPr/>
          <p:nvPr/>
        </p:nvPicPr>
        <p:blipFill>
          <a:blip r:embed="rId1"/>
          <a:stretch/>
        </p:blipFill>
        <p:spPr>
          <a:xfrm>
            <a:off x="550800" y="89532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蜗牛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春天到了，蜗牛妈妈对孩子说了什么？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第二次妈妈对小蜗牛说了什么？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蜗牛采回草莓没有？为什么？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蜗牛采回蘑菇没有？为什么？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年有几个季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621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2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2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6"/>
          <p:cNvSpPr/>
          <p:nvPr/>
        </p:nvSpPr>
        <p:spPr>
          <a:xfrm>
            <a:off x="720720" y="185112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这篇课文说明了要珍惜时间，时间有限制的，生命也一样，我们要在有限的生命中做出无限的好事、工作，要对得起自己，对得起祖国母亲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本文按春夏秋冬四季的顺序来写，条理清晰，我们也要学习这种条理清晰的说话写作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3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3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3"/>
          <p:cNvSpPr/>
          <p:nvPr/>
        </p:nvSpPr>
        <p:spPr>
          <a:xfrm>
            <a:off x="3217680" y="2838240"/>
            <a:ext cx="27302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盛年不重来，</a:t>
            </a: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"/>
              </a:rPr>
              <a:t>一日难再晨</a:t>
            </a: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及时当勉励，岁月不待人。（</a:t>
            </a: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"/>
              </a:rPr>
              <a:t>陶渊明</a:t>
            </a: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）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63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40" name="Picture 7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6"/>
          <p:cNvSpPr/>
          <p:nvPr/>
        </p:nvSpPr>
        <p:spPr>
          <a:xfrm>
            <a:off x="539640" y="206064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　　这篇课文说明了要珍惜时间，时间有限制的，生命也一样，我们要在有限的生命中做出无限的好事、工作，要对得起自己，对得起祖国母亲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4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4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8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0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21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22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24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26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认一认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6840" y="1600200"/>
            <a:ext cx="843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     玩 吧     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子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发芽       爬 呀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好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久   回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来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已经      全   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6064200" y="2678040"/>
            <a:ext cx="934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jiǔ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1009800" y="907920"/>
            <a:ext cx="1655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3276720" y="903240"/>
            <a:ext cx="1438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wán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5643720" y="919080"/>
            <a:ext cx="934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ái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11"/>
          <p:cNvSpPr/>
          <p:nvPr/>
        </p:nvSpPr>
        <p:spPr>
          <a:xfrm>
            <a:off x="4392720" y="911160"/>
            <a:ext cx="1944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DotumChe"/>
                <a:ea typeface="DotumChe"/>
              </a:rPr>
              <a:t>ba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539640" y="2622600"/>
            <a:ext cx="158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fā yá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2916360" y="2637000"/>
            <a:ext cx="934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pá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3851280" y="2622600"/>
            <a:ext cx="863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ya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900000" y="4437000"/>
            <a:ext cx="187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yǐ jī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2773440" y="4437000"/>
            <a:ext cx="2590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quán biàn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7203960" y="2606760"/>
            <a:ext cx="935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uí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0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41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42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43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44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46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写一写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48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49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51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52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54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55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56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2627280" y="54936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du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ì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对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61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62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4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65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67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8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69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mā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妈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74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75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77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78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80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81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82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qu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á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n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全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87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88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90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91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93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4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95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huí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回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万润仪器贸易公司</cp:lastModifiedBy>
  <dcterms:modified xsi:type="dcterms:W3CDTF">2020-08-24T01:55:2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